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47E-E69E-4BEC-A699-032088FE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BE1-A9A1-4B34-A95B-D23293A5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5EA-7BF8-4B1D-B81D-5FB979D8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4C5-8F64-43EF-B8EB-F2BADEFD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D2A-D50A-48A7-8766-CC2E50F4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6F3-3765-4347-A6AE-8C5FF7E1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A8D-7100-4932-B842-D929C52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B6E-D801-4C2A-85DF-E190239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9AF-D838-4D07-BD25-7729613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BFF-C9D9-420B-9757-1AC5886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7FA-D07B-4F65-A8DC-2E8797D7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AF3-133F-426D-BB5C-7EDC5B5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20CB-0418-4825-973D-304D32CD3D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579600" y="1660680"/>
            <a:ext cx="7360920" cy="3627360"/>
            <a:chOff x="579600" y="1660680"/>
            <a:chExt cx="7360920" cy="3627360"/>
          </a:xfrm>
        </p:grpSpPr>
        <p:sp>
          <p:nvSpPr>
            <p:cNvPr id="154" name="AutoShape 3"/>
            <p:cNvSpPr/>
            <p:nvPr/>
          </p:nvSpPr>
          <p:spPr>
            <a:xfrm>
              <a:off x="5247360" y="2805840"/>
              <a:ext cx="717840" cy="7635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30927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38109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45291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2473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965560" y="1660680"/>
              <a:ext cx="717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5965560" y="2233080"/>
              <a:ext cx="358920" cy="954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360" h="900">
                  <a:moveTo>
                    <a:pt x="360" y="0"/>
                  </a:moveTo>
                  <a:lnTo>
                    <a:pt x="360" y="900"/>
                  </a:lnTo>
                  <a:lnTo>
                    <a:pt x="0" y="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4888440" y="2233080"/>
              <a:ext cx="358920" cy="954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360" h="720">
                  <a:moveTo>
                    <a:pt x="0" y="0"/>
                  </a:moveTo>
                  <a:lnTo>
                    <a:pt x="0" y="720"/>
                  </a:lnTo>
                  <a:lnTo>
                    <a:pt x="360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2374560" y="3566520"/>
              <a:ext cx="2872440" cy="766800"/>
            </a:xfrm>
            <a:custGeom>
              <a:avLst/>
              <a:gdLst>
                <a:gd name="textAreaLeft" fmla="*/ 0 w 2872440"/>
                <a:gd name="textAreaRight" fmla="*/ 2872800 w 2872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1980" h="1800">
                  <a:moveTo>
                    <a:pt x="0" y="0"/>
                  </a:moveTo>
                  <a:lnTo>
                    <a:pt x="0" y="1800"/>
                  </a:lnTo>
                  <a:lnTo>
                    <a:pt x="1980" y="18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606640" y="3569760"/>
              <a:ext cx="0" cy="38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V="1">
              <a:off x="2015640" y="3187440"/>
              <a:ext cx="35892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5965560" y="4333320"/>
              <a:ext cx="161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4170240" y="4906080"/>
              <a:ext cx="26928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ис. 3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6504120" y="3951720"/>
              <a:ext cx="1256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ндро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2554200" y="2805840"/>
              <a:ext cx="3589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79600" y="2997000"/>
              <a:ext cx="10771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х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9"/>
            <p:cNvSpPr/>
            <p:nvPr/>
          </p:nvSpPr>
          <p:spPr>
            <a:xfrm>
              <a:off x="758880" y="3378600"/>
              <a:ext cx="12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2374560" y="2042280"/>
              <a:ext cx="717840" cy="11455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145520"/>
                <a:gd name="textAreaBottom" fmla="*/ 1145880 h 1145520"/>
              </a:gdLst>
              <a:ahLst/>
              <a:rect l="textAreaLeft" t="textAreaTop" r="textAreaRight" b="textAreaBottom"/>
              <a:pathLst>
                <a:path w="720" h="1080">
                  <a:moveTo>
                    <a:pt x="720" y="0"/>
                  </a:moveTo>
                  <a:lnTo>
                    <a:pt x="0" y="0"/>
                  </a:lnTo>
                  <a:lnTo>
                    <a:pt x="0" y="10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2554200" y="3378600"/>
              <a:ext cx="3589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22"/>
            <p:cNvSpPr/>
            <p:nvPr/>
          </p:nvSpPr>
          <p:spPr>
            <a:xfrm>
              <a:off x="5247360" y="3951720"/>
              <a:ext cx="717840" cy="7635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5247360" y="2424240"/>
              <a:ext cx="7178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5965560" y="3760560"/>
              <a:ext cx="7178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>
              <a:off x="6683760" y="2042280"/>
              <a:ext cx="125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6863400" y="1660680"/>
              <a:ext cx="10771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Rectangle 9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прощенная схема декодера СК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ля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= 4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2.ПРИНЦИП   ПЕРЕМЕЖЕН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04880" y="1092240"/>
            <a:ext cx="26985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678120" y="1959120"/>
            <a:ext cx="1584360" cy="57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 rot="10366200">
            <a:off x="698400" y="3954240"/>
            <a:ext cx="7400880" cy="523800"/>
          </a:xfrm>
          <a:custGeom>
            <a:avLst/>
            <a:gdLst>
              <a:gd name="textAreaLeft" fmla="*/ 1156320 w 7400880"/>
              <a:gd name="textAreaRight" fmla="*/ 6476040 w 7400880"/>
              <a:gd name="textAreaTop" fmla="*/ 130680 h 523800"/>
              <a:gd name="textAreaBottom" fmla="*/ 393120 h 523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054080" y="5321160"/>
            <a:ext cx="6908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106320" y="1225440"/>
            <a:ext cx="22651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33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80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9"/>
          <p:cNvSpPr/>
          <p:nvPr/>
        </p:nvSpPr>
        <p:spPr>
          <a:xfrm>
            <a:off x="5664240" y="4254480"/>
            <a:ext cx="723960" cy="69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5638680" y="3632040"/>
            <a:ext cx="723960" cy="6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5626080" y="2946240"/>
            <a:ext cx="723960" cy="6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9"/>
          <p:cNvGrpSpPr/>
          <p:nvPr/>
        </p:nvGrpSpPr>
        <p:grpSpPr>
          <a:xfrm>
            <a:off x="1333440" y="2933640"/>
            <a:ext cx="2400120" cy="698040"/>
            <a:chOff x="1333440" y="2933640"/>
            <a:chExt cx="2400120" cy="698040"/>
          </a:xfrm>
        </p:grpSpPr>
        <p:sp>
          <p:nvSpPr>
            <p:cNvPr id="189" name="Rectangle 10"/>
            <p:cNvSpPr/>
            <p:nvPr/>
          </p:nvSpPr>
          <p:spPr>
            <a:xfrm>
              <a:off x="2928960" y="2958840"/>
              <a:ext cx="80460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2138040" y="2946240"/>
              <a:ext cx="804600" cy="672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1333440" y="2933640"/>
              <a:ext cx="80460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5"/>
          <p:cNvGrpSpPr/>
          <p:nvPr/>
        </p:nvGrpSpPr>
        <p:grpSpPr>
          <a:xfrm>
            <a:off x="1460520" y="1549440"/>
            <a:ext cx="2230200" cy="698040"/>
            <a:chOff x="1460520" y="1549440"/>
            <a:chExt cx="2230200" cy="698040"/>
          </a:xfrm>
        </p:grpSpPr>
        <p:sp>
          <p:nvSpPr>
            <p:cNvPr id="193" name="Rectangle 6"/>
            <p:cNvSpPr/>
            <p:nvPr/>
          </p:nvSpPr>
          <p:spPr>
            <a:xfrm>
              <a:off x="2943000" y="1574640"/>
              <a:ext cx="74772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2208240" y="1562040"/>
              <a:ext cx="747720" cy="672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1460520" y="1549440"/>
              <a:ext cx="747720" cy="672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Rectangle 2"/>
          <p:cNvSpPr/>
          <p:nvPr/>
        </p:nvSpPr>
        <p:spPr>
          <a:xfrm>
            <a:off x="0" y="33012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ПРИНЦИП    ДЕПЕРЕМЕЖЕН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060560" y="2878200"/>
            <a:ext cx="2825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3754440" y="3610080"/>
            <a:ext cx="1584360" cy="576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5657760" y="2873520"/>
            <a:ext cx="21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670360" y="3432240"/>
            <a:ext cx="21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670360" y="4143240"/>
            <a:ext cx="21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434960" y="1492200"/>
            <a:ext cx="690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2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</a:t>
            </a:r>
            <a:r>
              <a:rPr b="1" lang="ru-RU" sz="3600" spc="-1" strike="noStrike" baseline="-25000">
                <a:solidFill>
                  <a:srgbClr val="009900"/>
                </a:solidFill>
                <a:latin typeface="Times New Roman"/>
              </a:rPr>
              <a:t>3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03040"/>
            <a:ext cx="91440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СТРОЕНИЕ КАСКАДНЫХ К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9280" y="2035080"/>
            <a:ext cx="8820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38120" indent="-438120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ВНУТРЕННИЙ КОД: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1080" y="1155600"/>
            <a:ext cx="8802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ВНЕШНИ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53240" y="4611600"/>
            <a:ext cx="86356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КАСКАДНЫ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∙n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∙ 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≥  d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min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 rot="5400000">
            <a:off x="3541320" y="2884320"/>
            <a:ext cx="1790640" cy="1498680"/>
          </a:xfrm>
          <a:custGeom>
            <a:avLst/>
            <a:gdLst>
              <a:gd name="textAreaLeft" fmla="*/ 223560 w 1790640"/>
              <a:gd name="textAreaRight" fmla="*/ 1567080 w 1790640"/>
              <a:gd name="textAreaTop" fmla="*/ 374760 h 1498680"/>
              <a:gd name="textAreaBottom" fmla="*/ 1124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5"/>
          <p:cNvSpPr/>
          <p:nvPr/>
        </p:nvSpPr>
        <p:spPr>
          <a:xfrm>
            <a:off x="1371600" y="1104840"/>
            <a:ext cx="4178160" cy="487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">
            <a:hlinkClick r:id="" action="ppaction://hlinkshowjump?jump=firstslide"/>
          </p:cNvPr>
          <p:cNvSpPr/>
          <p:nvPr/>
        </p:nvSpPr>
        <p:spPr>
          <a:xfrm>
            <a:off x="0" y="50760"/>
            <a:ext cx="9144000" cy="57168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45287" h="21600">
                <a:moveTo>
                  <a:pt x="0" y="0"/>
                </a:moveTo>
                <a:lnTo>
                  <a:pt x="345287" y="0"/>
                </a:lnTo>
                <a:lnTo>
                  <a:pt x="345287" y="21600"/>
                </a:lnTo>
                <a:lnTo>
                  <a:pt x="0" y="21600"/>
                </a:lnTo>
                <a:close/>
              </a:path>
              <a:path fill="lightenLess" w="345287" h="21600">
                <a:moveTo>
                  <a:pt x="0" y="0"/>
                </a:moveTo>
                <a:lnTo>
                  <a:pt x="345287" y="0"/>
                </a:lnTo>
                <a:lnTo>
                  <a:pt x="343887" y="1400"/>
                </a:lnTo>
                <a:lnTo>
                  <a:pt x="1400" y="1400"/>
                </a:lnTo>
                <a:close/>
              </a:path>
              <a:path fill="darken" w="345287" h="21600">
                <a:moveTo>
                  <a:pt x="345287" y="0"/>
                </a:moveTo>
                <a:lnTo>
                  <a:pt x="345287" y="21600"/>
                </a:lnTo>
                <a:lnTo>
                  <a:pt x="343887" y="20200"/>
                </a:lnTo>
                <a:lnTo>
                  <a:pt x="343887" y="1400"/>
                </a:lnTo>
                <a:close/>
              </a:path>
              <a:path fill="darkenLess" w="345287" h="21600">
                <a:moveTo>
                  <a:pt x="345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87" y="20200"/>
                </a:lnTo>
                <a:close/>
              </a:path>
              <a:path fill="lighten" w="345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КАСКАДНОЕ КОДИРОВАНИЕ В КАНАЛЕ  СВЯЗ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660680" y="2101680"/>
            <a:ext cx="140940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.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867080" y="3005280"/>
            <a:ext cx="98856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С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1122480" y="25480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3100320" y="25351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5230800" y="2573280"/>
            <a:ext cx="7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1109520" y="4086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3125880" y="4086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261040" y="4086360"/>
            <a:ext cx="745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3871800" y="2076480"/>
            <a:ext cx="1397160" cy="82548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.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7086600" y="2573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129440" y="4086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8277120" y="2573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8"/>
          <p:cNvSpPr/>
          <p:nvPr/>
        </p:nvSpPr>
        <p:spPr>
          <a:xfrm flipV="1">
            <a:off x="8335800" y="3654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1660680" y="3613320"/>
            <a:ext cx="140940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.ДЕК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6019920" y="2070000"/>
            <a:ext cx="1054080" cy="978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6032520" y="3530520"/>
            <a:ext cx="1054080" cy="978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3884760" y="3638520"/>
            <a:ext cx="1396800" cy="82548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.ДЕК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2297160" y="53625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ЕК КА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305640" y="20350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116640" y="4168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Дк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3899160" y="1352520"/>
            <a:ext cx="134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1714680" y="1390680"/>
            <a:ext cx="134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k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firstslide"/>
          </p:cNvPr>
          <p:cNvSpPr/>
          <p:nvPr/>
        </p:nvSpPr>
        <p:spPr>
          <a:xfrm>
            <a:off x="0" y="216000"/>
            <a:ext cx="9144000" cy="57132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45505" h="21600">
                <a:moveTo>
                  <a:pt x="0" y="0"/>
                </a:moveTo>
                <a:lnTo>
                  <a:pt x="345505" y="0"/>
                </a:lnTo>
                <a:lnTo>
                  <a:pt x="345505" y="21600"/>
                </a:lnTo>
                <a:lnTo>
                  <a:pt x="0" y="21600"/>
                </a:lnTo>
                <a:close/>
              </a:path>
              <a:path fill="lightenLess" w="345505" h="21600">
                <a:moveTo>
                  <a:pt x="0" y="0"/>
                </a:moveTo>
                <a:lnTo>
                  <a:pt x="345505" y="0"/>
                </a:lnTo>
                <a:lnTo>
                  <a:pt x="344105" y="1400"/>
                </a:lnTo>
                <a:lnTo>
                  <a:pt x="1400" y="1400"/>
                </a:lnTo>
                <a:close/>
              </a:path>
              <a:path fill="darken" w="345505" h="21600">
                <a:moveTo>
                  <a:pt x="345505" y="0"/>
                </a:moveTo>
                <a:lnTo>
                  <a:pt x="345505" y="21600"/>
                </a:lnTo>
                <a:lnTo>
                  <a:pt x="344105" y="20200"/>
                </a:lnTo>
                <a:lnTo>
                  <a:pt x="344105" y="1400"/>
                </a:lnTo>
                <a:close/>
              </a:path>
              <a:path fill="darkenLess" w="345505" h="21600">
                <a:moveTo>
                  <a:pt x="34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5" y="20200"/>
                </a:lnTo>
                <a:close/>
              </a:path>
              <a:path fill="lighten" w="34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МЕНЕНИЕ КАСКАДНЫХ К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49840" y="1311120"/>
            <a:ext cx="88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НУТРЕННИЙ КОД: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ИДА-СОЛОМОНА (7,3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7880" y="2327400"/>
            <a:ext cx="87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НЕШНИ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РИДА-СОЛОМОНА (28,24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553040" y="5070600"/>
            <a:ext cx="63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СКАДНЫЙ  КО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(196, 72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 rot="5400000">
            <a:off x="3600000" y="3181320"/>
            <a:ext cx="1791000" cy="1498680"/>
          </a:xfrm>
          <a:custGeom>
            <a:avLst/>
            <a:gdLst>
              <a:gd name="textAreaLeft" fmla="*/ 223920 w 1791000"/>
              <a:gd name="textAreaRight" fmla="*/ 1567440 w 1791000"/>
              <a:gd name="textAreaTop" fmla="*/ 374760 h 1498680"/>
              <a:gd name="textAreaBottom" fmla="*/ 1124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5589720"/>
            <a:ext cx="9144000" cy="1295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АЖАЕМЫЙ, ПОСТАВЬТЕ БЕДНОМУ СТУДЕНТУ РЕЙТИНГ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МА №2 ОСНОВЫ ПОМЕХОУСТОЙЧИВОГО  КОДИРОВАНИЯ В СИСТЕМАХ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3. НЕПРЕРЫВНЫЕ К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920960"/>
            <a:ext cx="956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ерточные коды. Построение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од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межение символов. Каскадные к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17680" y="28404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прерывные код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используетс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системах восстановления данных с компакт-дис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при создании архивов с информацией для восстановления в случае поврежд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в спутниковых системах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в системах мобильной радио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343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cc"/>
                </a:solidFill>
                <a:latin typeface="Arial"/>
              </a:rPr>
              <a:t>КЛАССИФИКАЦИЯ    НЕПРЕРЫВНЫХ   КОДОВ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917720" y="2221920"/>
            <a:ext cx="57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прерывные к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357156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верт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Вайнера-Эш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933640" y="3536640"/>
            <a:ext cx="318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цеп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Финка-Хагельберг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070680" y="35172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решетчат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H="1">
            <a:off x="1891800" y="2793960"/>
            <a:ext cx="23497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851360" y="2819520"/>
            <a:ext cx="2527200" cy="59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H="1">
            <a:off x="4533480" y="2870280"/>
            <a:ext cx="12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31880" y="0"/>
            <a:ext cx="74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собенности сверточных ко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3287880" y="2163600"/>
                <a:ext cx="14666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4"/>
          <p:cNvSpPr/>
          <p:nvPr/>
        </p:nvSpPr>
        <p:spPr>
          <a:xfrm>
            <a:off x="559080" y="777960"/>
            <a:ext cx="64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дин информационный симв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ходится один проверочны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-535680" y="3459240"/>
            <a:ext cx="10042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проверочный символ и 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тоположение определяется рекурентной формуло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Группа 14"/>
          <p:cNvGrpSpPr/>
          <p:nvPr/>
        </p:nvGrpSpPr>
        <p:grpSpPr>
          <a:xfrm>
            <a:off x="755640" y="4807080"/>
            <a:ext cx="7256520" cy="1148760"/>
            <a:chOff x="755640" y="4807080"/>
            <a:chExt cx="7256520" cy="1148760"/>
          </a:xfrm>
        </p:grpSpPr>
        <p:sp>
          <p:nvSpPr>
            <p:cNvPr id="59" name="Rectangle 120"/>
            <p:cNvSpPr/>
            <p:nvPr/>
          </p:nvSpPr>
          <p:spPr>
            <a:xfrm>
              <a:off x="755640" y="4880520"/>
              <a:ext cx="6998040" cy="1047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3"/>
            <p:cNvSpPr/>
            <p:nvPr/>
          </p:nvSpPr>
          <p:spPr>
            <a:xfrm>
              <a:off x="1064880" y="4807080"/>
              <a:ext cx="4157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4"/>
            <p:cNvSpPr/>
            <p:nvPr/>
          </p:nvSpPr>
          <p:spPr>
            <a:xfrm>
              <a:off x="5751720" y="4925520"/>
              <a:ext cx="226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96"/>
            <p:cNvSpPr/>
            <p:nvPr/>
          </p:nvSpPr>
          <p:spPr>
            <a:xfrm>
              <a:off x="5190480" y="5265360"/>
              <a:ext cx="558720" cy="54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97"/>
            <p:cNvSpPr/>
            <p:nvPr/>
          </p:nvSpPr>
          <p:spPr>
            <a:xfrm>
              <a:off x="5236920" y="5148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СВЕРТОЧНОГО КОДА С ПОМОЩЬЮ РЕКУРЕНТНОЙ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Группа 41"/>
          <p:cNvGrpSpPr/>
          <p:nvPr/>
        </p:nvGrpSpPr>
        <p:grpSpPr>
          <a:xfrm>
            <a:off x="907920" y="1390680"/>
            <a:ext cx="7256520" cy="1168200"/>
            <a:chOff x="907920" y="1390680"/>
            <a:chExt cx="7256520" cy="1168200"/>
          </a:xfrm>
        </p:grpSpPr>
        <p:sp>
          <p:nvSpPr>
            <p:cNvPr id="66" name="Rectangle 120"/>
            <p:cNvSpPr/>
            <p:nvPr/>
          </p:nvSpPr>
          <p:spPr>
            <a:xfrm>
              <a:off x="907920" y="1562040"/>
              <a:ext cx="6998040" cy="996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93"/>
            <p:cNvSpPr/>
            <p:nvPr/>
          </p:nvSpPr>
          <p:spPr>
            <a:xfrm>
              <a:off x="1155960" y="1390680"/>
              <a:ext cx="41576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94"/>
            <p:cNvSpPr/>
            <p:nvPr/>
          </p:nvSpPr>
          <p:spPr>
            <a:xfrm>
              <a:off x="5904000" y="1488960"/>
              <a:ext cx="226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l·i</a:t>
              </a:r>
              <a:r>
                <a:rPr b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43"/>
            <p:cNvGrpSpPr/>
            <p:nvPr/>
          </p:nvGrpSpPr>
          <p:grpSpPr>
            <a:xfrm>
              <a:off x="5327640" y="1628640"/>
              <a:ext cx="558720" cy="703440"/>
              <a:chOff x="5327640" y="1628640"/>
              <a:chExt cx="558720" cy="703440"/>
            </a:xfrm>
          </p:grpSpPr>
          <p:sp>
            <p:nvSpPr>
              <p:cNvPr id="70" name="Oval 96"/>
              <p:cNvSpPr/>
              <p:nvPr/>
            </p:nvSpPr>
            <p:spPr>
              <a:xfrm>
                <a:off x="5327640" y="1714320"/>
                <a:ext cx="558720" cy="52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97"/>
              <p:cNvSpPr/>
              <p:nvPr/>
            </p:nvSpPr>
            <p:spPr>
              <a:xfrm>
                <a:off x="5389200" y="16286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Rectangle 4"/>
          <p:cNvSpPr/>
          <p:nvPr/>
        </p:nvSpPr>
        <p:spPr>
          <a:xfrm>
            <a:off x="533520" y="2882880"/>
            <a:ext cx="807696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023240" y="28576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33520" y="369576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91640" y="28702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пач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шибок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922920" y="30481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91840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54680" y="299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541440" y="410040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541440" y="44751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41440" y="48243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41440" y="521028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111480" y="2882880"/>
            <a:ext cx="0" cy="312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5232240" y="2870280"/>
            <a:ext cx="0" cy="31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8"/>
          <p:cNvSpPr/>
          <p:nvPr/>
        </p:nvSpPr>
        <p:spPr>
          <a:xfrm>
            <a:off x="1635120" y="3660840"/>
            <a:ext cx="33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0"/>
          <p:cNvSpPr/>
          <p:nvPr/>
        </p:nvSpPr>
        <p:spPr>
          <a:xfrm>
            <a:off x="3933720" y="3686040"/>
            <a:ext cx="33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1"/>
          <p:cNvSpPr/>
          <p:nvPr/>
        </p:nvSpPr>
        <p:spPr>
          <a:xfrm>
            <a:off x="5788080" y="3673440"/>
            <a:ext cx="6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"/>
          <p:cNvSpPr/>
          <p:nvPr/>
        </p:nvSpPr>
        <p:spPr>
          <a:xfrm>
            <a:off x="7540560" y="3660840"/>
            <a:ext cx="6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03"/>
          <p:cNvSpPr/>
          <p:nvPr/>
        </p:nvSpPr>
        <p:spPr>
          <a:xfrm>
            <a:off x="1765440" y="5308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4"/>
          <p:cNvSpPr/>
          <p:nvPr/>
        </p:nvSpPr>
        <p:spPr>
          <a:xfrm>
            <a:off x="1765440" y="5524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06"/>
          <p:cNvGrpSpPr/>
          <p:nvPr/>
        </p:nvGrpSpPr>
        <p:grpSpPr>
          <a:xfrm>
            <a:off x="4064040" y="5346720"/>
            <a:ext cx="88920" cy="304920"/>
            <a:chOff x="4064040" y="5346720"/>
            <a:chExt cx="88920" cy="304920"/>
          </a:xfrm>
        </p:grpSpPr>
        <p:sp>
          <p:nvSpPr>
            <p:cNvPr id="92" name="Oval 107"/>
            <p:cNvSpPr/>
            <p:nvPr/>
          </p:nvSpPr>
          <p:spPr>
            <a:xfrm>
              <a:off x="4064040" y="5346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08"/>
            <p:cNvSpPr/>
            <p:nvPr/>
          </p:nvSpPr>
          <p:spPr>
            <a:xfrm>
              <a:off x="4064040" y="556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9"/>
          <p:cNvGrpSpPr/>
          <p:nvPr/>
        </p:nvGrpSpPr>
        <p:grpSpPr>
          <a:xfrm>
            <a:off x="5994360" y="5346720"/>
            <a:ext cx="88920" cy="304920"/>
            <a:chOff x="5994360" y="5346720"/>
            <a:chExt cx="88920" cy="304920"/>
          </a:xfrm>
        </p:grpSpPr>
        <p:sp>
          <p:nvSpPr>
            <p:cNvPr id="95" name="Oval 110"/>
            <p:cNvSpPr/>
            <p:nvPr/>
          </p:nvSpPr>
          <p:spPr>
            <a:xfrm>
              <a:off x="5994360" y="5346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11"/>
            <p:cNvSpPr/>
            <p:nvPr/>
          </p:nvSpPr>
          <p:spPr>
            <a:xfrm>
              <a:off x="5994360" y="556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12"/>
          <p:cNvGrpSpPr/>
          <p:nvPr/>
        </p:nvGrpSpPr>
        <p:grpSpPr>
          <a:xfrm>
            <a:off x="7810560" y="5334120"/>
            <a:ext cx="88920" cy="304200"/>
            <a:chOff x="7810560" y="5334120"/>
            <a:chExt cx="88920" cy="304200"/>
          </a:xfrm>
        </p:grpSpPr>
        <p:sp>
          <p:nvSpPr>
            <p:cNvPr id="98" name="Oval 113"/>
            <p:cNvSpPr/>
            <p:nvPr/>
          </p:nvSpPr>
          <p:spPr>
            <a:xfrm>
              <a:off x="7810560" y="53341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4"/>
            <p:cNvSpPr/>
            <p:nvPr/>
          </p:nvSpPr>
          <p:spPr>
            <a:xfrm>
              <a:off x="7810560" y="55497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Oval 116"/>
          <p:cNvSpPr/>
          <p:nvPr/>
        </p:nvSpPr>
        <p:spPr>
          <a:xfrm>
            <a:off x="1765440" y="5740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17"/>
          <p:cNvSpPr/>
          <p:nvPr/>
        </p:nvSpPr>
        <p:spPr>
          <a:xfrm>
            <a:off x="4064040" y="5765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18"/>
          <p:cNvSpPr/>
          <p:nvPr/>
        </p:nvSpPr>
        <p:spPr>
          <a:xfrm>
            <a:off x="5994360" y="5753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9"/>
          <p:cNvSpPr/>
          <p:nvPr/>
        </p:nvSpPr>
        <p:spPr>
          <a:xfrm>
            <a:off x="7810560" y="5740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СВЕРТОЧНОГО КОДА С ПОМОЩЬЮ РЕКУРЕНТНОЙ ФОРМУЛЫ ДЛЯ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133720" y="1036800"/>
            <a:ext cx="4998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(1+2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(6+2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+ а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(10+2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645440" y="2001960"/>
            <a:ext cx="2338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901080" y="2017800"/>
            <a:ext cx="34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0  получ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885240" y="2855880"/>
            <a:ext cx="34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1  получ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4739400" y="2886120"/>
            <a:ext cx="2236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853920" y="3657600"/>
            <a:ext cx="7435800" cy="2895120"/>
            <a:chOff x="853920" y="3657600"/>
            <a:chExt cx="7435800" cy="2895120"/>
          </a:xfrm>
        </p:grpSpPr>
        <p:sp>
          <p:nvSpPr>
            <p:cNvPr id="111" name="AutoShape 3"/>
            <p:cNvSpPr/>
            <p:nvPr/>
          </p:nvSpPr>
          <p:spPr>
            <a:xfrm>
              <a:off x="1998000" y="4484520"/>
              <a:ext cx="762480" cy="826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1235160" y="4071240"/>
              <a:ext cx="762480" cy="82692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720" h="1260">
                  <a:moveTo>
                    <a:pt x="0" y="0"/>
                  </a:moveTo>
                  <a:lnTo>
                    <a:pt x="0" y="1260"/>
                  </a:lnTo>
                  <a:lnTo>
                    <a:pt x="720" y="12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2760480" y="4071240"/>
              <a:ext cx="1334520" cy="82692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260" h="1260">
                  <a:moveTo>
                    <a:pt x="1260" y="0"/>
                  </a:moveTo>
                  <a:lnTo>
                    <a:pt x="1260" y="1260"/>
                  </a:lnTo>
                  <a:lnTo>
                    <a:pt x="0" y="12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2951280" y="4071240"/>
              <a:ext cx="2097360" cy="1240560"/>
            </a:xfrm>
            <a:custGeom>
              <a:avLst/>
              <a:gdLst>
                <a:gd name="textAreaLeft" fmla="*/ 0 w 2097360"/>
                <a:gd name="textAreaRight" fmla="*/ 2097720 w 2097360"/>
                <a:gd name="textAreaTop" fmla="*/ 0 h 1240560"/>
                <a:gd name="textAreaBottom" fmla="*/ 1240920 h 1240560"/>
              </a:gdLst>
              <a:ahLst/>
              <a:rect l="textAreaLeft" t="textAreaTop" r="textAreaRight" b="textAreaBottom"/>
              <a:pathLst>
                <a:path w="720" h="1260">
                  <a:moveTo>
                    <a:pt x="0" y="0"/>
                  </a:moveTo>
                  <a:lnTo>
                    <a:pt x="0" y="1260"/>
                  </a:lnTo>
                  <a:lnTo>
                    <a:pt x="720" y="12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5048640" y="4898520"/>
              <a:ext cx="762480" cy="826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5429880" y="40712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5811480" y="4071240"/>
              <a:ext cx="2097360" cy="1240560"/>
            </a:xfrm>
            <a:custGeom>
              <a:avLst/>
              <a:gdLst>
                <a:gd name="textAreaLeft" fmla="*/ 0 w 2097360"/>
                <a:gd name="textAreaRight" fmla="*/ 2097360 w 2097360"/>
                <a:gd name="textAreaTop" fmla="*/ 0 h 1240560"/>
                <a:gd name="textAreaBottom" fmla="*/ 1240920 h 1240560"/>
              </a:gdLst>
              <a:ahLst/>
              <a:rect l="textAreaLeft" t="textAreaTop" r="textAreaRight" b="textAreaBottom"/>
              <a:pathLst>
                <a:path w="2520" h="1620">
                  <a:moveTo>
                    <a:pt x="0" y="1620"/>
                  </a:moveTo>
                  <a:lnTo>
                    <a:pt x="2520" y="1620"/>
                  </a:lnTo>
                  <a:lnTo>
                    <a:pt x="25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379240" y="4071240"/>
              <a:ext cx="4766760" cy="1860840"/>
            </a:xfrm>
            <a:custGeom>
              <a:avLst/>
              <a:gdLst>
                <a:gd name="textAreaLeft" fmla="*/ 0 w 4766760"/>
                <a:gd name="textAreaRight" fmla="*/ 4767120 w 4766760"/>
                <a:gd name="textAreaTop" fmla="*/ 0 h 1860840"/>
                <a:gd name="textAreaBottom" fmla="*/ 1861200 h 1860840"/>
              </a:gdLst>
              <a:ahLst/>
              <a:rect l="textAreaLeft" t="textAreaTop" r="textAreaRight" b="textAreaBottom"/>
              <a:pathLst>
                <a:path w="4680" h="2160">
                  <a:moveTo>
                    <a:pt x="0" y="1620"/>
                  </a:moveTo>
                  <a:lnTo>
                    <a:pt x="0" y="2160"/>
                  </a:lnTo>
                  <a:lnTo>
                    <a:pt x="4680" y="2160"/>
                  </a:lnTo>
                  <a:lnTo>
                    <a:pt x="46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85392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199800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276048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333252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390456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4476600" y="3657600"/>
              <a:ext cx="572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504864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562068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619272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6764760" y="3657600"/>
              <a:ext cx="572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726804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7718040" y="3657600"/>
              <a:ext cx="571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3523320" y="6139080"/>
              <a:ext cx="2859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325520" y="1341360"/>
            <a:ext cx="6035760" cy="3246480"/>
            <a:chOff x="1325520" y="1341360"/>
            <a:chExt cx="6035760" cy="3246480"/>
          </a:xfrm>
        </p:grpSpPr>
        <p:grpSp>
          <p:nvGrpSpPr>
            <p:cNvPr id="133" name="Group 3"/>
            <p:cNvGrpSpPr/>
            <p:nvPr/>
          </p:nvGrpSpPr>
          <p:grpSpPr>
            <a:xfrm>
              <a:off x="1325520" y="1341360"/>
              <a:ext cx="6035760" cy="3246480"/>
              <a:chOff x="1325520" y="1341360"/>
              <a:chExt cx="6035760" cy="3246480"/>
            </a:xfrm>
          </p:grpSpPr>
          <p:sp>
            <p:nvSpPr>
              <p:cNvPr id="134" name="AutoShape 4"/>
              <p:cNvSpPr/>
              <p:nvPr/>
            </p:nvSpPr>
            <p:spPr>
              <a:xfrm>
                <a:off x="4908960" y="2423520"/>
                <a:ext cx="754200" cy="721440"/>
              </a:xfrm>
              <a:prstGeom prst="flowChar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5"/>
              <p:cNvSpPr/>
              <p:nvPr/>
            </p:nvSpPr>
            <p:spPr>
              <a:xfrm>
                <a:off x="264564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ru-RU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6"/>
              <p:cNvSpPr/>
              <p:nvPr/>
            </p:nvSpPr>
            <p:spPr>
              <a:xfrm>
                <a:off x="340020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7"/>
              <p:cNvSpPr/>
              <p:nvPr/>
            </p:nvSpPr>
            <p:spPr>
              <a:xfrm>
                <a:off x="415476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8"/>
              <p:cNvSpPr/>
              <p:nvPr/>
            </p:nvSpPr>
            <p:spPr>
              <a:xfrm>
                <a:off x="490896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9"/>
              <p:cNvSpPr/>
              <p:nvPr/>
            </p:nvSpPr>
            <p:spPr>
              <a:xfrm>
                <a:off x="5663520" y="1521720"/>
                <a:ext cx="75420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5663520" y="2062800"/>
                <a:ext cx="377280" cy="72144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721440"/>
                  <a:gd name="textAreaBottom" fmla="*/ 721800 h 721440"/>
                </a:gdLst>
                <a:ahLst/>
                <a:rect l="textAreaLeft" t="textAreaTop" r="textAreaRight" b="textAreaBottom"/>
                <a:pathLst>
                  <a:path w="360" h="900">
                    <a:moveTo>
                      <a:pt x="360" y="0"/>
                    </a:moveTo>
                    <a:lnTo>
                      <a:pt x="360" y="900"/>
                    </a:lnTo>
                    <a:lnTo>
                      <a:pt x="0" y="9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1"/>
              <p:cNvSpPr/>
              <p:nvPr/>
            </p:nvSpPr>
            <p:spPr>
              <a:xfrm>
                <a:off x="4532040" y="2062800"/>
                <a:ext cx="376920" cy="7214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721440"/>
                  <a:gd name="textAreaBottom" fmla="*/ 721800 h 721440"/>
                </a:gdLst>
                <a:ahLst/>
                <a:rect l="textAreaLeft" t="textAreaTop" r="textAreaRight" b="textAreaBottom"/>
                <a:pathLst>
                  <a:path w="36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360" y="7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2"/>
              <p:cNvSpPr/>
              <p:nvPr/>
            </p:nvSpPr>
            <p:spPr>
              <a:xfrm>
                <a:off x="3022920" y="2062800"/>
                <a:ext cx="2074680" cy="1803600"/>
              </a:xfrm>
              <a:custGeom>
                <a:avLst/>
                <a:gdLst>
                  <a:gd name="textAreaLeft" fmla="*/ 0 w 2074680"/>
                  <a:gd name="textAreaRight" fmla="*/ 2075040 w 2074680"/>
                  <a:gd name="textAreaTop" fmla="*/ 0 h 1803600"/>
                  <a:gd name="textAreaBottom" fmla="*/ 1803960 h 1803600"/>
                </a:gdLst>
                <a:ahLst/>
                <a:rect l="textAreaLeft" t="textAreaTop" r="textAreaRight" b="textAreaBottom"/>
                <a:pathLst>
                  <a:path w="1980" h="1800">
                    <a:moveTo>
                      <a:pt x="0" y="0"/>
                    </a:moveTo>
                    <a:lnTo>
                      <a:pt x="0" y="1800"/>
                    </a:lnTo>
                    <a:lnTo>
                      <a:pt x="1980" y="18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>
                <a:off x="5286600" y="31449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4"/>
              <p:cNvSpPr/>
              <p:nvPr/>
            </p:nvSpPr>
            <p:spPr>
              <a:xfrm>
                <a:off x="5097600" y="3866400"/>
                <a:ext cx="37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5"/>
              <p:cNvSpPr/>
              <p:nvPr/>
            </p:nvSpPr>
            <p:spPr>
              <a:xfrm>
                <a:off x="5474880" y="3866400"/>
                <a:ext cx="169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16"/>
              <p:cNvSpPr/>
              <p:nvPr/>
            </p:nvSpPr>
            <p:spPr>
              <a:xfrm>
                <a:off x="3400200" y="4227120"/>
                <a:ext cx="282924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17"/>
              <p:cNvSpPr/>
              <p:nvPr/>
            </p:nvSpPr>
            <p:spPr>
              <a:xfrm>
                <a:off x="6229440" y="3505680"/>
                <a:ext cx="113184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Выхо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 Box 18"/>
              <p:cNvSpPr/>
              <p:nvPr/>
            </p:nvSpPr>
            <p:spPr>
              <a:xfrm>
                <a:off x="4908960" y="3324960"/>
                <a:ext cx="37728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 Box 19"/>
              <p:cNvSpPr/>
              <p:nvPr/>
            </p:nvSpPr>
            <p:spPr>
              <a:xfrm>
                <a:off x="1514160" y="1341360"/>
                <a:ext cx="113148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Вхо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1325520" y="1771920"/>
                <a:ext cx="13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21"/>
            <p:cNvSpPr/>
            <p:nvPr/>
          </p:nvSpPr>
          <p:spPr>
            <a:xfrm>
              <a:off x="5223600" y="3957480"/>
              <a:ext cx="376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91"/>
          <p:cNvSpPr/>
          <p:nvPr/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прощенная схема кодера СК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ля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= 4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38:43Z</dcterms:created>
  <dc:creator>Каф9</dc:creator>
  <dc:description/>
  <dc:language>en-US</dc:language>
  <cp:lastModifiedBy>Вера</cp:lastModifiedBy>
  <dcterms:modified xsi:type="dcterms:W3CDTF">2021-09-14T12:38:02Z</dcterms:modified>
  <cp:revision>55</cp:revision>
  <dc:subject/>
  <dc:title>ГРУППОВОЙ  (5,3)-КОД  Проверочные  соотношения: а4 = а1 + а3 а5 = а1 + а2 + а3</dc:title>
</cp:coreProperties>
</file>